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ct" ContentType="image/x-pict"/>
  <Override PartName="/ppt/media/image9.png" ContentType="image/png"/>
  <Override PartName="/ppt/media/image11.emf" ContentType="image/x-emf"/>
  <Override PartName="/ppt/media/image7.pct" ContentType="image/x-pict"/>
  <Override PartName="/ppt/media/image8.pct" ContentType="image/x-pict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39F-25D6-449E-80AD-57B1694C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E078-B6AC-4744-94BF-EB765477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49DA-B8C4-4E84-B9F6-B69BA923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9206-A304-4834-95D5-479435F9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22AA-143A-4615-8F84-D8BAAB5E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351A-4CB6-41C9-A0CD-BDE9808E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5668-5644-40CD-9688-B1B9BDF2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C444-6DA0-4636-AC0C-1F06F949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85DA-9932-4143-8B91-2247E2B1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3CB8-F143-4193-AC2A-FEA9B48E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981E-B1E1-47C4-971C-534ED40A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B52A-9B4B-4375-A3F5-1C6BCF5A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BF76-6F52-4422-AA5D-1DB73B64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FCE4-682C-4316-B732-E3E02718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B384-48A5-4761-9542-005C88EB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9D47-50BE-43C0-AF69-33664684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6530-1F12-43D9-9223-15C6AB80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A10-0CF1-4112-912F-3554A00E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7AA-429E-494A-AF38-D20CC2E3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0242-C5C3-4A95-82B7-A7BA0848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7D29-A8F0-41F6-A4E9-AF7C8629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91C-435F-4A59-B19D-FDEFFD68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952-53F7-49C3-99A8-7151F228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249C-72A9-452A-8B05-81815331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F56D-4DFB-46D9-86E8-1AF2CDC71ED2}" type="slidenum">
              <a:rPr b="0" lang="en-US" sz="1400" spc="-1" strike="noStrike">
                <a:solidFill>
                  <a:srgbClr val="5b87f2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ECE6-DB09-4ADA-8642-9BDD90898F36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51" name="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emf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nips.com/doc/3de229bc-87e1-44ea-afcc-69d28f87a877/Mythbusters-Theme-Song" TargetMode="External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>
            <a:alphaModFix amt="74000"/>
          </a:blip>
          <a:stretch/>
        </p:blipFill>
        <p:spPr>
          <a:xfrm>
            <a:off x="1905120" y="10666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1a20"/>
                </a:solidFill>
                <a:latin typeface="Arial"/>
              </a:rPr>
              <a:t>Positive Behavior Intervention and Supports: Training the “Wildcat Way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a20"/>
                </a:solidFill>
                <a:latin typeface="Arial"/>
              </a:rPr>
              <a:t>Forest Park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a20"/>
                </a:solidFill>
                <a:latin typeface="Arial"/>
              </a:rPr>
              <a:t>2008-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3D8030F-4008-4CAF-8634-C53E41F92848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PB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oad range of proactive, systematic, and individualized strategies for achieving important social and learning outcomes in safe and effective environments while preventing problem behavior with all students (Sugai, 200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BIS Re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ositive comments are required to negate one negative comment (Note:  The number of positive comments increases to every negative comment as the student moves through schoo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replace inappropriate behaviors with appropriate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nsions and detentions don’t change student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jority of students comply with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yramid of Interven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lready use the Pyramid of Interventions for the “academic side” of groups of students and individual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- Math lab, CA block, Student Behavior Plans, FHS tutors, After-School Homework Cl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going to look at the “behavior side” of the pyramid for groups of students and individual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- Honor Level, house awards, quarterly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yramid of Interven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43000" y="1944720"/>
            <a:ext cx="6629400" cy="468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a child does not know how to read, w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a child does not know how to swim, w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a child does not know how to multiply, w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a child does not know how to drive, w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a child does not know how to beha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ach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?…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unish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ing (cont’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understand that behavioral skills are learned, it is necessary to teach expected behaviors as we would academic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don’t tell a student, “Well you should have learned how to add in second grade.  I really can’t teach you how to add now in third grad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ps for Teaching Behavi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what should be conducted in actual setting whenever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high frequency, positive 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to all students by all adults in the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s to be embedded into subject area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examples and non-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students practice examples but not non-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: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hings Are D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/Expectations for classroom and non-classroom settings (lunchroom, bus, bathroom, hallway, assemb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 for reinforcing expected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 for responding to office 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 for meeting the needs of all students (The Pyramid of Interven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Acknowledgement Pract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ppropriate Behav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26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nt to counse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26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incipal’s off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26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ll ho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26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rent meet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26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pecial incentiv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26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326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07-2008 (IS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326"/>
              </a:spcBef>
              <a:buClr>
                <a:srgbClr val="555555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5 total ISS affecting 30 out of 617 students - 4.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326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06-2007 (IS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326"/>
              </a:spcBef>
              <a:buClr>
                <a:srgbClr val="555555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4 total ISS affecting 39 out of 630 students - 6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326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07-2008 (OS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326"/>
              </a:spcBef>
              <a:buClr>
                <a:srgbClr val="555555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9 total in 2007-08 affecting 36 out of 617 students - 5.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326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06-2007 (OS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 algn="ctr">
              <a:lnSpc>
                <a:spcPct val="90000"/>
              </a:lnSpc>
              <a:spcBef>
                <a:spcPts val="326"/>
              </a:spcBef>
              <a:buClr>
                <a:srgbClr val="555555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7 total OSS in 2006-07 affecting 51 out of 630 students - 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26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tentions (2007-0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326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,331 total lunch or after school deten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076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or Level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cognition per qu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 Slips (2007-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th grade (734 sl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th grade (426 sl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(1160 sl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rposes of Acknowledg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 the teaching of expected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the behaviors we want to occur again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ness the influence of the students who are showing expected behaviors to encourage the students who are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en positive behaviors that can compete with problem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our school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itive interactions and rapport with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we can earn time back to teach and keep kids in the classroom where they can learn from 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ining Behavioral Expec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43000" y="1905120"/>
          <a:ext cx="7162920" cy="4802040"/>
        </p:xfrm>
        <a:graphic>
          <a:graphicData uri="http://schemas.openxmlformats.org/drawingml/2006/table">
            <a:tbl>
              <a:tblPr/>
              <a:tblGrid>
                <a:gridCol w="3429000"/>
                <a:gridCol w="3733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Re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bad41a"/>
                        </a:buClr>
                        <a:buSzPct val="120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k ques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bad41a"/>
                        </a:buClr>
                        <a:buSzPct val="120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e as nee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bad41a"/>
                        </a:buClr>
                        <a:buSzPct val="120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at meeting on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Respon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bad41a"/>
                        </a:buClr>
                        <a:buSzPct val="120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FOO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bad41a"/>
                        </a:buClr>
                        <a:buSzPct val="120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ng appropriate materials to meet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Respectf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bad41a"/>
                        </a:buClr>
                        <a:buSzPct val="120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n cell phones “off” or to “vibrate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bad41a"/>
                        </a:buClr>
                        <a:buSzPct val="120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 and make phone calls in areas outside of the meeting ro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bad41a"/>
                        </a:buClr>
                        <a:buSzPct val="120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it for communications with team members until team and break times or write no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bad41a"/>
                        </a:buClr>
                        <a:buSzPct val="120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 your full attention to the presenter/speak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ations at Forest Par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Used infraction form to group behavi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ildcat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Respo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Respect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06072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y 2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>
            <a:alphaModFix amt="74000"/>
          </a:blip>
          <a:stretch/>
        </p:blipFill>
        <p:spPr>
          <a:xfrm>
            <a:off x="1905120" y="10666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1a20"/>
                </a:solidFill>
                <a:latin typeface="Arial"/>
              </a:rPr>
              <a:t>Positive Behavior Intervention and Supports: Training the “Wildcat Way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a20"/>
                </a:solidFill>
                <a:latin typeface="Arial"/>
              </a:rPr>
              <a:t>Forest Park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a20"/>
                </a:solidFill>
                <a:latin typeface="Arial"/>
              </a:rPr>
              <a:t>2008-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0EBC09A-6772-4F45-9D05-C7F9F7C35FAE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ittee Findings From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7-08 FP Study Gro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consequences consistently, calmly, and human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urage responsibl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esources for teachers to deal with mis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es needed for improving behaviors in common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needs to be proactive, positive, and instru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ions that provide information (students need to be told what to do and how to do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parents positive comments (help build ra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classroom management with students and post in class (include students in cre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es for classroom management at in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ve reinforcers throughout the day fo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connections with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rposes of Acknowledg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inforce the teaching of new behavi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the behaviors we want to occur again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ness the influence of the students who are showing expected behaviors to encourage the students who are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 positive behaviors that can compete with problem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our school cl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positive interactions and rapport with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we can earn time back to teach and keep kids in the classroom where they can learn from u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Do We Do It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based evidence on punitive pract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suggests that traditional school practices viewed as punishment, exacerbate and contribute to the problem of challenging behavior.  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 of school susp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gue school rules and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or no positive consequences for appropriat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staff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 to consider and accommodate individual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yer, 1995; Mayer and Butterworth, 1997, 1981;  Nafpaktitis, Butterworth &amp; Hollingsworth,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actices”:  How Staff Interact with Stud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5 school-wide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room managed vs. office referr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s like we teach academics with Teach To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moment reminders/re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correct to “get” expect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 practice what we pr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practice what we t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knowled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, intermittent, long-term reinforcements for expecte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s to ensure future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-te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quences for non-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expect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 of needed behavioral/academic sup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nation of Wildcat W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ed Behavi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Specific Non-Classroom and Classroom Set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rooms, offices, common areas, hallways, lockers, bathrooms, gym, locker rooms, LMC, computer labs, lunchroom, bus, outside and in the commun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the “Curriculum” that will guide the teaching of expected behavi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s communication and creates common language among staff and between students and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rix of Behavi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rix 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house teams/encore teams and work with current matr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at should be added/deleted to matrix (15 minute time limi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out ideas and decide on changes (15 minutes) - Dot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ittee Findings From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7-08 FP Study Gro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 consequences consistently, calmly, and human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courage responsibl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resources for teachers to deal with mis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gies needed for improving behaviors in commo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 needs to be proactive, positive, and instruc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rrections that provide information (students need to be told what to do and how to do 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 parents positive comments (help build rappor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classroom management with students and post in class (include students in creat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gies for classroom management at in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itive reinforcers throughout the day for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ke connections with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rocess for dealing with student discipline to ensure consistency building-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55555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al w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555555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on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555555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parent contact and infraction sent to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There are behaviors that require immediate attention by administration - above a 5 pt offense/possible intervention based on a student behavior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room Managed vs. Office Managed Behavi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76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 Managed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endance/Tardy - Inform parents on effect on academic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anity directed at stu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m che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tt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compli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 c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y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or ste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ess code vio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or hara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6480" y="1828440"/>
            <a:ext cx="4076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Managed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endance/Tardy/Trua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legal sub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p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anity directed at ad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disru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h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bal/Physical intim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ste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onic dress code vio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assment (including sex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67680" y="-55087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447920" y="23619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what we’ve never had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ust do what we’ve never don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Mac And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19360" y="122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Behavior Intervention and Supports Committee Action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44560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Behavior Intervention and Supports Committee Action Plan (Cont’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846432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ding Good Directions . .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6248520" cy="495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ecorating at Forest Pa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tear down the walls and start over or just do some redecorating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00200" y="3200400"/>
            <a:ext cx="2457360" cy="327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410080" y="3276720"/>
            <a:ext cx="2343240" cy="3124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87800" y="6399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25200" y="63997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ythbusters about Forest Park Discipline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Honor Level System been elimin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another new thing on my pl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going to take mor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 we reinforce what is already exp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there will be no more consequences for students in response to their poor behavioral choi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da31e"/>
                </a:solidFill>
                <a:uFillTx/>
                <a:latin typeface="Arial"/>
                <a:hlinkClick r:id="rId2"/>
              </a:rPr>
              <a:t>H ttp://www.esnips.com/doc/3de229bc-87e1-44ea-afcc-69d28f87a877/Mythbusters-Theme-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118116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Can WE Chang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ent Behavi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  By changing the way we do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what students should be doing instead of what they should not be doing (look for appropriate behaviors on infraction fo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 to reinforce positive behavioral choices (“Wildcat Way” sli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 a commo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ositive connections with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2:28:26Z</dcterms:created>
  <dc:creator>Franklin</dc:creator>
  <dc:description/>
  <dc:language>en-US</dc:language>
  <cp:lastModifiedBy>Franklin</cp:lastModifiedBy>
  <cp:lastPrinted>2008-08-15T20:01:00Z</cp:lastPrinted>
  <dcterms:modified xsi:type="dcterms:W3CDTF">2008-08-28T01:07:37Z</dcterms:modified>
  <cp:revision>84</cp:revision>
  <dc:subject/>
  <dc:title>Positive Behavior Training</dc:title>
</cp:coreProperties>
</file>